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ickvan.wav" ContentType="audio/x-wav"/>
  <Override PartName="/ppt/media/grnacres.wav" ContentType="audio/x-wav"/>
  <Override PartName="/ppt/media/jeannie.wav" ContentType="audio/x-wav"/>
  <Override PartName="/ppt/media/odcouple.wav" ContentType="audio/x-wav"/>
  <Override PartName="/ppt/media/lovelucy.wav" ContentType="audio/x-wav"/>
  <Override PartName="/ppt/media/ticktock.wav" ContentType="audio/x-wav"/>
  <Override PartName="/ppt/media/standbyaction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DFEE-E131-47A1-8543-F9BCD9A1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E130-2D79-42CC-B1BA-F83D5900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D192-274C-4A2E-AEF0-0F6CAD01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3EDD-3AD6-47D6-9769-2A10F08D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487A-0A4C-4621-B5AD-013ABD64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BB1F-34C2-4E08-BAA5-99D9D214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1FA5-C279-4001-9DC4-C32E7BB8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035A-7E8C-40E9-8816-3C7E0255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BB65-93C3-4413-A9A6-374AA21B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24C9-38F6-4242-8B5F-1E9DA6B6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48BC-627C-4A35-993E-A7BB1D2E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CA0E-76BC-4C49-81E2-CB1A81F2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A2EA-D89F-4A55-9656-1DE46126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DA93-F633-4E91-8107-9C568EF2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4713-2AB1-4E91-ABDB-3E8DDF2F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0B55-294F-44F0-8F39-1AE375F5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CC94-1FC0-46C2-8CD1-42E51EF6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E4CF-919C-4D11-AACB-C7931D9B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576D-F9DD-48CB-8A01-DAE50649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22A0-719B-4AC5-83C5-E47FEF15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8B62-1592-432F-9672-B4FBFF5C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8163-C7FF-4EA7-88AE-F2D95CAA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BDCF-5B5C-42F8-9583-43D833AC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89C1-F6BA-40D8-8EBB-64B856DF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7775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7775"/>
                </a:gs>
                <a:gs pos="100000">
                  <a:srgbClr val="005a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2649-85FB-42EB-89BD-62A3E9A05A1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7775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7775"/>
                </a:gs>
                <a:gs pos="100000">
                  <a:srgbClr val="005a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86D4-C4E6-4544-A531-A7BA40B8206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ickvan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icktock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icktock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icktock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icktock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icktock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icktock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icktock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icktock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icktock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icktock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grnacr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standbyaction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anni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ovelucy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odcoupl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icktock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icktock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icktock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icktock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581280" y="609480"/>
            <a:ext cx="2133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minut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581280" y="609480"/>
            <a:ext cx="2133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minut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1549440"/>
            <a:ext cx="8001000" cy="355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et's get started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581280" y="609480"/>
            <a:ext cx="2133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minut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581280" y="609480"/>
            <a:ext cx="2133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minut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581280" y="609480"/>
            <a:ext cx="2133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minute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20:41:59Z</dcterms:created>
  <dc:creator>Marilyn Western</dc:creator>
  <dc:description/>
  <dc:language>en-US</dc:language>
  <cp:lastModifiedBy>admin</cp:lastModifiedBy>
  <dcterms:modified xsi:type="dcterms:W3CDTF">2004-09-12T21:11:11Z</dcterms:modified>
  <cp:revision>14</cp:revision>
  <dc:subject/>
  <dc:title>PowerPoint Presentation</dc:title>
</cp:coreProperties>
</file>